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370-A886-4DB5-8A9D-9362CFD0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2AB-9C92-4BF1-BA3A-D475B744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122-3D6A-4BBD-8B4D-7D3D42CF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6BC-662F-4009-9064-524B615A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CD6-2704-487D-BEAB-52A0368F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DD2-F009-4286-9E77-17DEB207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901-CD51-4F9B-B6CA-A85DEED7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3B2-A4E2-428C-94E6-3F040B18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DAD-A8FD-4F7C-80A7-75A399AE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A20-E946-4A59-A891-C5915DAC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212-1BBF-4F97-884F-5B25EF2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F4D-8200-4F67-A194-30DFA86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7595-1B3A-4FAD-BD08-2904A9342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240" y="380520"/>
            <a:ext cx="70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on 4.2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Using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Using the Order of Operations with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95480" y="15238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peated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28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2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443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3962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086600" cy="192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191120" cy="642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412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11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5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9480" y="45360"/>
            <a:ext cx="722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certain star is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ght-years from Ea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ight- years is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5257800" cy="99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7391160" cy="731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907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(5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 *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1814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               * substitute the values for th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6386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(-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(-8) +6                      * Simplify using the orde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 + 6 = 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31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x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3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276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352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6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4724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44197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.184   #2 – 34 every other even and p.185 #56 – 66 e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9:03:18Z</dcterms:created>
  <dc:creator>Susannah Graham</dc:creator>
  <dc:description/>
  <dc:language>en-US</dc:language>
  <cp:lastModifiedBy>grahams</cp:lastModifiedBy>
  <dcterms:modified xsi:type="dcterms:W3CDTF">2011-12-14T14:33:48Z</dcterms:modified>
  <cp:revision>4</cp:revision>
  <dc:subject/>
  <dc:title>Homework to do in groups: p. 203 # 2 – 34 every other even </dc:title>
</cp:coreProperties>
</file>